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4F8DE-8E56-458B-B273-A31889CAC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26AD5-43D0-42C6-86F2-5DAE63D7A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394D1-9C24-4511-9B1F-38B1955B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6BCB5-5945-4E8E-84A2-03F17276A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9950F-79E7-497B-B22F-8AD4E1B1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E3A07-749A-48BF-AD63-8EEA0CF1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2A4F-BF60-47A1-A8AA-D3617730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226D-AF79-4390-915C-6B1B9C84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2E0E4-9E2C-4D75-8A49-A2CD44A0F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2A3D-A8CE-4A40-96BC-CA22FB8C1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18C72-5976-4EC1-98A1-EA60489B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D870-5065-4762-B2F8-90BE85B67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5C36-64F3-4C1B-8ED6-ADC010593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ar Energ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14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rc Di Cola</a:t>
            </a:r>
            <a:br>
              <a:rPr sz="3200"/>
            </a:br>
            <a:r>
              <a:rPr b="0" lang="en-US" sz="3200" spc="-1" strike="noStrike">
                <a:solidFill>
                  <a:srgbClr val="000000"/>
                </a:solidFill>
                <a:latin typeface="Arial"/>
              </a:rPr>
              <a:t>an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 Blakeslee</a:t>
            </a:r>
            <a:endParaRPr b="0" lang="en-US" sz="3200" spc="-1" strike="noStrike">
              <a:solidFill>
                <a:srgbClr val="000000"/>
              </a:solidFill>
              <a:latin typeface="Arial"/>
            </a:endParaRPr>
          </a:p>
        </p:txBody>
      </p:sp>
      <p:pic>
        <p:nvPicPr>
          <p:cNvPr id="43" name="" descr=""/>
          <p:cNvPicPr/>
          <p:nvPr/>
        </p:nvPicPr>
        <p:blipFill>
          <a:blip r:embed="rId1"/>
          <a:stretch/>
        </p:blipFill>
        <p:spPr>
          <a:xfrm>
            <a:off x="0" y="30481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energy is created by the fission of ato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tom splits it produces free neutrons, which cause a chain reaction in the reactor, creating massive heat ener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ed Descrip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uclear fission the atoms, typically uranium, are split which starts a chain reaction that splits other atoms in the core of the pl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created during the reaction is used to  heat water, creating steam, which spins a turbine, creating po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ssions from plants do not contribute to global wa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provides 11%-18% of the world’s electr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released by splitting one atom of uranium is 10 million times greater than burning an atom of c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anium is easier to obtain than fossil fu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at of nuclear accidents and radiation leak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to obtain nuclear weap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large amounts of capital to st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waste is difficult to dispose of properly.</a:t>
            </a:r>
            <a:endParaRPr b="0" lang="en-US" sz="3200" spc="-1" strike="noStrike">
              <a:solidFill>
                <a:srgbClr val="000000"/>
              </a:solidFill>
              <a:latin typeface="Arial"/>
            </a:endParaRPr>
          </a:p>
        </p:txBody>
      </p:sp>
      <p:pic>
        <p:nvPicPr>
          <p:cNvPr id="54" name="" descr=""/>
          <p:cNvPicPr/>
          <p:nvPr/>
        </p:nvPicPr>
        <p:blipFill>
          <a:blip r:embed="rId1"/>
          <a:stretch/>
        </p:blipFill>
        <p:spPr>
          <a:xfrm>
            <a:off x="4495680" y="4343400"/>
            <a:ext cx="27003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ernobyl Accid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rnobyl is located in the Ukraine, formally the Soviet Un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pril 26, 1986 had the worst nuclear power plant accident in history when steam pressure began to build up in the reac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sure was caused by the shut down of the turbine, which supplied power to the water pum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graphite control rods had been removed, the reactor began to split atoms out of control, and the absence of coolant and the control rods allowed for the buildup of ste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tors inserted the control rods into the core to slow the reaction, it went solid, blowing the 2,000 ton lid off the c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ident resulted in 56 direct deaths, and 4,000 deaths from radiation poisoning, as well as widespread birth defects and other problems associated with exposure to radi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cca Mountai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Mountain is located in Nevada, and is used as storage for nuclear was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Mountain is set to open in 201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Mountain is not open because the land is not licensed for nuclear wasted dumping, and lawmakers of Nevada do not want nuclear waste dumped in their st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is set to start in 201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3:30:34Z</dcterms:created>
  <dc:creator>sasd</dc:creator>
  <dc:description/>
  <dc:language>en-US</dc:language>
  <cp:lastModifiedBy>sasd</cp:lastModifiedBy>
  <dcterms:modified xsi:type="dcterms:W3CDTF">2009-04-21T13:37:46Z</dcterms:modified>
  <cp:revision>11</cp:revision>
  <dc:subject/>
  <dc:title>Nuclear Energy</dc:title>
</cp:coreProperties>
</file>